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jpeg" ContentType="image/jpeg"/>
  <Override PartName="/ppt/media/image54.jpeg" ContentType="image/jpeg"/>
  <Override PartName="/ppt/media/image9.png" ContentType="image/png"/>
  <Override PartName="/ppt/media/image22.jpeg" ContentType="image/jpeg"/>
  <Override PartName="/ppt/media/image50.jpeg" ContentType="image/jpeg"/>
  <Override PartName="/ppt/media/image6.jpeg" ContentType="image/jpeg"/>
  <Override PartName="/ppt/media/image35.jpeg" ContentType="image/jpeg"/>
  <Override PartName="/ppt/media/image1.jpeg" ContentType="image/jpeg"/>
  <Override PartName="/ppt/media/image27.jpeg" ContentType="image/jpeg"/>
  <Override PartName="/ppt/media/image10.jpeg" ContentType="image/jpeg"/>
  <Override PartName="/ppt/media/Chopin%20-%20Tristesse%20(piano).wav" ContentType="audio/x-wav"/>
  <Override PartName="/ppt/media/image7.png" ContentType="image/png"/>
  <Override PartName="/ppt/media/image34.jpeg" ContentType="image/jpeg"/>
  <Override PartName="/ppt/media/image32.png" ContentType="image/png"/>
  <Override PartName="/ppt/media/image14.png" ContentType="image/png"/>
  <Override PartName="/ppt/media/image2.png" ContentType="image/png"/>
  <Override PartName="/ppt/media/image25.jpeg" ContentType="image/jpeg"/>
  <Override PartName="/ppt/media/image49.png" ContentType="image/png"/>
  <Override PartName="/ppt/media/image23.jpeg" ContentType="image/jpeg"/>
  <Override PartName="/ppt/media/image12.png" ContentType="image/png"/>
  <Override PartName="/ppt/media/image28.jpeg" ContentType="image/jpeg"/>
  <Override PartName="/ppt/media/image24.jpeg" ContentType="image/jpeg"/>
  <Override PartName="/ppt/media/image56.jpeg" ContentType="image/jpeg"/>
  <Override PartName="/ppt/media/image3.png" ContentType="image/png"/>
  <Override PartName="/ppt/media/image18.jpeg" ContentType="image/jpeg"/>
  <Override PartName="/ppt/media/image21.jpeg" ContentType="image/jpeg"/>
  <Override PartName="/ppt/media/image60.jpeg" ContentType="image/jpeg"/>
  <Override PartName="/ppt/media/image30.png" ContentType="image/png"/>
  <Override PartName="/ppt/media/image37.jpeg" ContentType="image/jpeg"/>
  <Override PartName="/ppt/media/image16.png" ContentType="image/png"/>
  <Override PartName="/ppt/media/image15.jpeg" ContentType="image/jpeg"/>
  <Override PartName="/ppt/media/image61.jpeg" ContentType="image/jpeg"/>
  <Override PartName="/ppt/media/image17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43.jpeg" ContentType="image/jpeg"/>
  <Override PartName="/ppt/media/image26.png" ContentType="image/png"/>
  <Override PartName="/ppt/media/image8.jpeg" ContentType="image/jpeg"/>
  <Override PartName="/ppt/media/image5.png" ContentType="image/png"/>
  <Override PartName="/ppt/media/image39.jpeg" ContentType="image/jpeg"/>
  <Override PartName="/ppt/media/image19.jpeg" ContentType="image/jpeg"/>
  <Override PartName="/ppt/media/image42.jpeg" ContentType="image/jpeg"/>
  <Override PartName="/ppt/media/image59.jpeg" ContentType="image/jpeg"/>
  <Override PartName="/ppt/media/image11.png" ContentType="image/png"/>
  <Override PartName="/ppt/media/image29.jpeg" ContentType="image/jpeg"/>
  <Override PartName="/ppt/media/image52.jpeg" ContentType="image/jpeg"/>
  <Override PartName="/ppt/media/image31.jpeg" ContentType="image/jpeg"/>
  <Override PartName="/ppt/media/image33.jpeg" ContentType="image/jpeg"/>
  <Override PartName="/ppt/media/image36.jpeg" ContentType="image/jpeg"/>
  <Override PartName="/ppt/media/image57.png" ContentType="image/png"/>
  <Override PartName="/ppt/media/image38.jpeg" ContentType="image/jpeg"/>
  <Override PartName="/ppt/media/image41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.jpeg" ContentType="image/jpeg"/>
  <Override PartName="/ppt/media/image51.png" ContentType="image/pn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3374-0253-4B53-80A5-D60301104A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1AA1B-47C8-4456-BB39-A54C6FFFDDE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9A05-65D9-4ABC-86A4-452A4DA11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A28-E980-4913-AB46-9BE01F5D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4B0-8E05-449F-99D9-EFB6F44E0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8EB3-14F0-464E-90A1-6AE2D4F5E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09F84-D05B-4C79-B382-1E69A8FC7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97584-006E-4A38-AF92-F21B6230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4B76-49B5-4D7A-BD62-A12C1B1D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87D3-1D02-44E7-9269-895AAB0C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8EA5-2923-4481-8C16-D0EA9425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430A8-592E-4312-9DDB-D3BC3CEF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AFE3-B0DE-485A-8EF9-66B869A4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BA63-7380-4E25-AF3E-8F7C492D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E853-49AB-41C7-AB47-92385E90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D030-A5A9-4B5B-A81E-62DA9D7AF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26C3-F057-4041-9531-048656424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A0A6-F750-4F10-83C1-BB33D9265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582F2-DD84-4A15-A463-E1F7568D6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0FB4-95C5-41BD-9391-7FA81EF55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83C8-0BA3-417A-8921-2960E694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D117-13E4-4E3E-8D9D-AEFCDAF9C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C0A8-4E14-49ED-A7EA-4A8C56E2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82C-6335-4ED6-86BC-17A4F8B3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CB0D-054E-46A5-B470-1BF4CC4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CAA-79B9-4B9C-B1FC-8F33012C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600"/>
            <a:ext cx="2870280" cy="3275640"/>
            <a:chOff x="6273360" y="-21600"/>
            <a:chExt cx="287028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3960" y="28296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920" y="1771920"/>
                <a:ext cx="242280" cy="1425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588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600"/>
              <a:ext cx="2870280" cy="2269080"/>
              <a:chOff x="6273360" y="-21600"/>
              <a:chExt cx="287028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600"/>
                <a:ext cx="2867400" cy="2269080"/>
                <a:chOff x="6273360" y="-21600"/>
                <a:chExt cx="286740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320" y="842760"/>
                  <a:ext cx="1063800" cy="1141200"/>
                  <a:chOff x="7834320" y="842760"/>
                  <a:chExt cx="1063800" cy="114120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560"/>
                    <a:ext cx="88488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5640" y="1602720"/>
                    <a:ext cx="47376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960" y="824400"/>
                    <a:ext cx="86004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50440" y="1032480"/>
                    <a:ext cx="460080" cy="26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320" y="657720"/>
                  <a:ext cx="1223640" cy="417600"/>
                  <a:chOff x="7852320" y="657720"/>
                  <a:chExt cx="122364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520" y="709920"/>
                    <a:ext cx="792000" cy="163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7040"/>
                    <a:ext cx="42516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2120" y="632880"/>
                  <a:ext cx="1106280" cy="184320"/>
                  <a:chOff x="787212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3200" y="651240"/>
                    <a:ext cx="72036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400"/>
                  <a:ext cx="983880" cy="326880"/>
                  <a:chOff x="7845480" y="419400"/>
                  <a:chExt cx="98388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6280"/>
                    <a:ext cx="63468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2600" y="456120"/>
                    <a:ext cx="34092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680" y="905400"/>
                  <a:ext cx="1062360" cy="1141920"/>
                  <a:chOff x="6538680" y="905400"/>
                  <a:chExt cx="1062360" cy="114192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3560" y="1193760"/>
                    <a:ext cx="8805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760" y="1665360"/>
                    <a:ext cx="4726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840"/>
                  <a:ext cx="1265400" cy="1051920"/>
                  <a:chOff x="6303960" y="861840"/>
                  <a:chExt cx="1265400" cy="105192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960" y="1112400"/>
                    <a:ext cx="9291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880" y="1515960"/>
                    <a:ext cx="4986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7280"/>
                  <a:ext cx="1288080" cy="828360"/>
                  <a:chOff x="6286320" y="827280"/>
                  <a:chExt cx="1288080" cy="82836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280" cy="15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400" y="1321200"/>
                    <a:ext cx="4773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560" cy="668880"/>
                  <a:chOff x="6273360" y="787320"/>
                  <a:chExt cx="1303560" cy="66888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6200"/>
                    <a:ext cx="860400" cy="16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3200"/>
                    <a:ext cx="461520" cy="26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880" y="801720"/>
                    <a:ext cx="792000" cy="1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91360"/>
                    <a:ext cx="425160" cy="246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640" cy="184320"/>
                  <a:chOff x="643644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1280" y="741240"/>
                    <a:ext cx="720360" cy="10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880" y="221400"/>
                  <a:ext cx="900720" cy="628560"/>
                  <a:chOff x="6752880" y="221400"/>
                  <a:chExt cx="900720" cy="62856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1600" y="573480"/>
                    <a:ext cx="634680" cy="10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1640" cy="169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5840" cy="809640"/>
                  <a:chOff x="7287480" y="-21600"/>
                  <a:chExt cx="46584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3200" y="460800"/>
                    <a:ext cx="542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60480"/>
                    <a:ext cx="294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3240"/>
                  <a:ext cx="964440" cy="461520"/>
                  <a:chOff x="7792920" y="273240"/>
                  <a:chExt cx="964440" cy="46152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402040" y="329760"/>
                    <a:ext cx="33480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800"/>
                  <a:ext cx="916200" cy="604440"/>
                  <a:chOff x="7737480" y="136800"/>
                  <a:chExt cx="916200" cy="60444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96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6200" y="212760"/>
                    <a:ext cx="33660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840" y="-11160"/>
                  <a:ext cx="497160" cy="791280"/>
                  <a:chOff x="7665840" y="-11160"/>
                  <a:chExt cx="49716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4600" y="466560"/>
                    <a:ext cx="54360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840"/>
                    <a:ext cx="29232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0400" y="930240"/>
                  <a:ext cx="914760" cy="1248480"/>
                  <a:chOff x="6710400" y="930240"/>
                  <a:chExt cx="914760" cy="124848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6560" y="1257840"/>
                    <a:ext cx="8884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2200" y="1786680"/>
                    <a:ext cx="4770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7040" cy="1248480"/>
                  <a:chOff x="7014960" y="979200"/>
                  <a:chExt cx="61704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89760" y="1309320"/>
                    <a:ext cx="822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5520" y="1852920"/>
                    <a:ext cx="43596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2520"/>
                  <a:chOff x="7786800" y="956160"/>
                  <a:chExt cx="732600" cy="126252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880"/>
                    <a:ext cx="84636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40680"/>
                    <a:ext cx="45432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10120" cy="1242360"/>
                  <a:chOff x="7757280" y="1005120"/>
                  <a:chExt cx="51012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600" y="1351440"/>
                    <a:ext cx="820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3280" y="1908000"/>
                    <a:ext cx="43956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960"/>
                  <a:chOff x="773352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960" y="1377000"/>
                    <a:ext cx="75312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2840" y="1900080"/>
                    <a:ext cx="4068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600" y="1077840"/>
                  <a:ext cx="276480" cy="1131480"/>
                  <a:chOff x="7500600" y="1077840"/>
                  <a:chExt cx="27648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1680" y="1402200"/>
                    <a:ext cx="73908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000" y="1928520"/>
                    <a:ext cx="396000" cy="15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88640" cy="1177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3760" y="759240"/>
                <a:ext cx="63468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464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0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588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480" y="1102320"/>
                <a:ext cx="223560" cy="426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7792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88800" cy="117900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5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1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1371B-3FB6-4138-9C2F-C5140C92DC2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600" y="245160"/>
            <a:ext cx="6896520" cy="5452200"/>
            <a:chOff x="2010600" y="245160"/>
            <a:chExt cx="689652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1120"/>
              <a:ext cx="945720" cy="709920"/>
              <a:chOff x="3484080" y="951120"/>
              <a:chExt cx="945720" cy="70992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1120"/>
                <a:ext cx="945720" cy="70992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288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600" y="245160"/>
              <a:ext cx="6896520" cy="5452200"/>
              <a:chOff x="2010600" y="245160"/>
              <a:chExt cx="689652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600" y="245160"/>
                <a:ext cx="6891480" cy="5452200"/>
                <a:chOff x="2010600" y="245160"/>
                <a:chExt cx="689148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7560"/>
                  <a:ext cx="3603240" cy="2648520"/>
                  <a:chOff x="3735720" y="1267560"/>
                  <a:chExt cx="3603240" cy="26485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7560"/>
                    <a:ext cx="3603240" cy="2648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200" y="2234160"/>
                    <a:ext cx="713520" cy="501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600" y="245160"/>
                  <a:ext cx="6891480" cy="5452200"/>
                  <a:chOff x="2010600" y="245160"/>
                  <a:chExt cx="689148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0560"/>
                    <a:ext cx="2558160" cy="2740680"/>
                    <a:chOff x="5761440" y="2320560"/>
                    <a:chExt cx="2558160" cy="27406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182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5200" y="4142880"/>
                      <a:ext cx="11379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8440" y="2150280"/>
                    <a:ext cx="3039840" cy="2526840"/>
                    <a:chOff x="5788440" y="2150280"/>
                    <a:chExt cx="3039840" cy="252684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4000"/>
                      <a:ext cx="2236320" cy="42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096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4240"/>
                    <a:ext cx="3097080" cy="1992240"/>
                    <a:chOff x="5775840" y="2064240"/>
                    <a:chExt cx="309708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19640"/>
                      <a:ext cx="213840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3240" y="3243960"/>
                      <a:ext cx="1148760" cy="58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7920" y="1968840"/>
                    <a:ext cx="3134160" cy="1608120"/>
                    <a:chOff x="5767920" y="1968840"/>
                    <a:chExt cx="313416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8080"/>
                      <a:ext cx="2067480" cy="413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12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5720" y="1878120"/>
                    <a:ext cx="2937240" cy="1001880"/>
                    <a:chOff x="5805720" y="1878120"/>
                    <a:chExt cx="293724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4120"/>
                      <a:ext cx="19040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000" y="2210040"/>
                      <a:ext cx="10209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3680"/>
                    <a:ext cx="2658600" cy="442440"/>
                    <a:chOff x="5851440" y="1813680"/>
                    <a:chExt cx="2658600" cy="4424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493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120" y="1825200"/>
                      <a:ext cx="92952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5720"/>
                    <a:ext cx="2363760" cy="784080"/>
                    <a:chOff x="5788440" y="1305720"/>
                    <a:chExt cx="2363760" cy="78408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2760"/>
                      <a:ext cx="15192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4280"/>
                      <a:ext cx="816480" cy="41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000" y="2472480"/>
                    <a:ext cx="2557440" cy="2742480"/>
                    <a:chOff x="2646000" y="2472480"/>
                    <a:chExt cx="2557440" cy="274248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2600" y="317016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000" y="4294440"/>
                      <a:ext cx="11426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8360" y="2365200"/>
                    <a:ext cx="3037680" cy="2533680"/>
                    <a:chOff x="2088360" y="2365200"/>
                    <a:chExt cx="3037680" cy="25336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68200"/>
                      <a:ext cx="2235960" cy="42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72600" y="3940200"/>
                      <a:ext cx="1200960" cy="67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1560" y="2283120"/>
                    <a:ext cx="3092040" cy="1988280"/>
                    <a:chOff x="2041560" y="2283120"/>
                    <a:chExt cx="3092040" cy="198828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4720" y="2738160"/>
                      <a:ext cx="213660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400" y="3462120"/>
                      <a:ext cx="1149840" cy="58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600" y="2191320"/>
                    <a:ext cx="3130560" cy="1607760"/>
                    <a:chOff x="2010600" y="2191320"/>
                    <a:chExt cx="31305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520" y="2500200"/>
                      <a:ext cx="20649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1320" cy="652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70800" y="2096280"/>
                    <a:ext cx="2936520" cy="998280"/>
                    <a:chOff x="2170800" y="2096280"/>
                    <a:chExt cx="2936520" cy="99828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5280" y="2222280"/>
                      <a:ext cx="190440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6440" y="2428560"/>
                      <a:ext cx="1020960" cy="59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28240"/>
                    <a:ext cx="2655360" cy="449640"/>
                    <a:chOff x="2403720" y="2028240"/>
                    <a:chExt cx="2655360" cy="4496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480" y="2068920"/>
                      <a:ext cx="172836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39400"/>
                      <a:ext cx="9295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0640"/>
                    <a:ext cx="2364120" cy="786960"/>
                    <a:chOff x="2761200" y="1520640"/>
                    <a:chExt cx="2364120" cy="78696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6400" y="187020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09200"/>
                      <a:ext cx="81540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920" y="1238040"/>
                    <a:ext cx="2324520" cy="1080720"/>
                    <a:chOff x="2887920" y="1238040"/>
                    <a:chExt cx="2324520" cy="10807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6320"/>
                      <a:ext cx="15210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720" y="1371960"/>
                      <a:ext cx="816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880" y="832680"/>
                    <a:ext cx="2169000" cy="1503720"/>
                    <a:chOff x="3161880" y="832680"/>
                    <a:chExt cx="2169000" cy="150372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148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4560"/>
                      <a:ext cx="81540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4160"/>
                    <a:ext cx="1987200" cy="1832040"/>
                    <a:chOff x="3437280" y="434160"/>
                    <a:chExt cx="1987200" cy="183204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320" y="1499400"/>
                      <a:ext cx="154260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420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3000"/>
                    <a:ext cx="1459440" cy="1890000"/>
                    <a:chOff x="4026960" y="333000"/>
                    <a:chExt cx="1459440" cy="18900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2600" y="1443960"/>
                      <a:ext cx="135972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000" y="543960"/>
                      <a:ext cx="72828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9600" y="245160"/>
                    <a:ext cx="1119240" cy="1948320"/>
                    <a:chOff x="4449600" y="245160"/>
                    <a:chExt cx="1119240" cy="19483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3280" y="1402200"/>
                      <a:ext cx="13096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9720" y="439200"/>
                      <a:ext cx="70164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5320" y="950040"/>
                    <a:ext cx="2317680" cy="1112040"/>
                    <a:chOff x="5665320" y="950040"/>
                    <a:chExt cx="231768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9200" y="1521000"/>
                      <a:ext cx="1518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6840" y="1088280"/>
                      <a:ext cx="816840" cy="41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4600"/>
                    <a:ext cx="2199600" cy="1450800"/>
                    <a:chOff x="5529600" y="6246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8120"/>
                      <a:ext cx="15181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0856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120" y="1465920"/>
                    <a:ext cx="126540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3040" y="536400"/>
                    <a:ext cx="67968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0680" y="269640"/>
                    <a:ext cx="1201680" cy="1900800"/>
                    <a:chOff x="5350680" y="269640"/>
                    <a:chExt cx="1201680" cy="190080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2120" y="1416240"/>
                      <a:ext cx="1310760" cy="228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6000" y="484920"/>
                      <a:ext cx="703440" cy="35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52480" y="384120"/>
                    <a:ext cx="1891800" cy="1795320"/>
                    <a:chOff x="5352480" y="384120"/>
                    <a:chExt cx="1891800" cy="179532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52400" y="1383120"/>
                      <a:ext cx="142524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6560" y="579960"/>
                      <a:ext cx="766440" cy="524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7960" y="290160"/>
                    <a:ext cx="424080" cy="1796040"/>
                    <a:chOff x="5457960" y="290160"/>
                    <a:chExt cx="424080" cy="179604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6520" y="1442880"/>
                      <a:ext cx="117720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38880" y="530640"/>
                      <a:ext cx="630360" cy="1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4320" y="2528640"/>
                    <a:ext cx="2195280" cy="3000600"/>
                    <a:chOff x="3064320" y="2528640"/>
                    <a:chExt cx="2195280" cy="30006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2720"/>
                      <a:ext cx="212724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70800" y="4589280"/>
                      <a:ext cx="11390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2600" y="2647080"/>
                    <a:ext cx="1485360" cy="3001320"/>
                    <a:chOff x="3792600" y="2647080"/>
                    <a:chExt cx="1485360" cy="300132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40400" y="3436560"/>
                      <a:ext cx="196740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4440"/>
                      <a:ext cx="1055880" cy="60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5400" y="2699640"/>
                    <a:ext cx="871200" cy="2924640"/>
                    <a:chOff x="4505400" y="2699640"/>
                    <a:chExt cx="871200" cy="292464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0600" y="348552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3200" y="4804920"/>
                      <a:ext cx="1011600" cy="54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4320" y="2481840"/>
                    <a:ext cx="2279520" cy="2949840"/>
                    <a:chOff x="5674320" y="2481840"/>
                    <a:chExt cx="2279520" cy="294984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2960" y="3248640"/>
                      <a:ext cx="2126520" cy="38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040" y="4496760"/>
                      <a:ext cx="1137240" cy="60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5160" y="2594880"/>
                    <a:ext cx="1756080" cy="3030480"/>
                    <a:chOff x="5645160" y="2594880"/>
                    <a:chExt cx="1756080" cy="30304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4280" y="3395160"/>
                      <a:ext cx="203148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47160" y="4719240"/>
                      <a:ext cx="109116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4960" y="2710440"/>
                    <a:ext cx="1226520" cy="2986920"/>
                    <a:chOff x="5574960" y="2710440"/>
                    <a:chExt cx="12265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5760" y="3542040"/>
                      <a:ext cx="197244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35360"/>
                    <a:ext cx="697680" cy="2782440"/>
                    <a:chOff x="5521320" y="2835360"/>
                    <a:chExt cx="697680" cy="278244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5280" y="3603960"/>
                      <a:ext cx="18158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560" y="4863240"/>
                      <a:ext cx="975600" cy="47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1160" y="2886120"/>
                    <a:ext cx="663120" cy="2718720"/>
                    <a:chOff x="4961160" y="2886120"/>
                    <a:chExt cx="663120" cy="271872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080"/>
                      <a:ext cx="177264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1640"/>
                      <a:ext cx="95112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1520" y="680400"/>
                <a:ext cx="6735600" cy="4523040"/>
                <a:chOff x="2171520" y="680400"/>
                <a:chExt cx="6735600" cy="45230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1520" y="680400"/>
                  <a:ext cx="6735600" cy="4523040"/>
                  <a:chOff x="2171520" y="680400"/>
                  <a:chExt cx="6735600" cy="45230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560" y="856080"/>
                    <a:ext cx="3166560" cy="252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58880" y="2268000"/>
                    <a:ext cx="248688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320" y="1749960"/>
                    <a:ext cx="1758240" cy="2937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1160" y="1295640"/>
                    <a:ext cx="3135960" cy="2935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6040" y="680400"/>
                    <a:ext cx="2282400" cy="284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440" y="1874520"/>
                    <a:ext cx="943200" cy="284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000" y="833040"/>
                    <a:ext cx="515160" cy="188028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79800"/>
                  <a:ext cx="54612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3160"/>
              <a:ext cx="6413400" cy="4710960"/>
              <a:chOff x="2343960" y="713160"/>
              <a:chExt cx="6413400" cy="471096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1200" y="323640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720" y="2581200"/>
                <a:ext cx="2615400" cy="28429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440" y="2123280"/>
                <a:ext cx="1536840" cy="293544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39520"/>
                <a:ext cx="2931480" cy="29354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90440" y="2151720"/>
                <a:ext cx="46980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2480" y="2138040"/>
                <a:ext cx="1239480" cy="29354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7800" y="3548520"/>
                <a:ext cx="598320" cy="1824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480" y="2947680"/>
                <a:ext cx="544680" cy="1034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7400" y="3385800"/>
                <a:ext cx="133740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120" y="1398960"/>
                <a:ext cx="857160" cy="1880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5000" y="3109320"/>
                <a:ext cx="1242360" cy="1973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440" y="2111040"/>
                <a:ext cx="1874160" cy="13165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9000" y="713160"/>
                <a:ext cx="819000" cy="17694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5000" y="215532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9A16-95F9-47E7-8036-E3253EE2E69A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opin%20-%20Tristesse%20(piano)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image" Target="../media/image2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79280" y="479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  ЭТОТ ДЕНЬ НАЧАЛАСЬ ВОЙН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5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a8a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0182"/>
          <p:cNvPicPr/>
          <p:nvPr/>
        </p:nvPicPr>
        <p:blipFill>
          <a:blip r:embed="rId1"/>
          <a:stretch/>
        </p:blipFill>
        <p:spPr>
          <a:xfrm>
            <a:off x="1116000" y="1484280"/>
            <a:ext cx="6835680" cy="5127480"/>
          </a:xfrm>
          <a:prstGeom prst="rect">
            <a:avLst/>
          </a:prstGeom>
          <a:ln w="0">
            <a:noFill/>
          </a:ln>
        </p:spPr>
      </p:pic>
      <p:sp>
        <p:nvSpPr>
          <p:cNvPr id="385" name="Rectangle 9"/>
          <p:cNvSpPr/>
          <p:nvPr/>
        </p:nvSpPr>
        <p:spPr>
          <a:xfrm>
            <a:off x="685800" y="301680"/>
            <a:ext cx="777240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7" name="Picture 5" descr="0197"/>
          <p:cNvPicPr/>
          <p:nvPr/>
        </p:nvPicPr>
        <p:blipFill>
          <a:blip r:embed="rId1"/>
          <a:stretch/>
        </p:blipFill>
        <p:spPr>
          <a:xfrm>
            <a:off x="1187280" y="1413000"/>
            <a:ext cx="662004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9" name="Picture 5" descr="0248"/>
          <p:cNvPicPr/>
          <p:nvPr/>
        </p:nvPicPr>
        <p:blipFill>
          <a:blip r:embed="rId1"/>
          <a:stretch/>
        </p:blipFill>
        <p:spPr>
          <a:xfrm>
            <a:off x="1258920" y="1700280"/>
            <a:ext cx="6619680" cy="49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1" name="Picture 5" descr="0257"/>
          <p:cNvPicPr/>
          <p:nvPr/>
        </p:nvPicPr>
        <p:blipFill>
          <a:blip r:embed="rId1"/>
          <a:stretch/>
        </p:blipFill>
        <p:spPr>
          <a:xfrm>
            <a:off x="1116000" y="1622520"/>
            <a:ext cx="6980400" cy="523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3" name="Picture 7" descr="0627"/>
          <p:cNvPicPr/>
          <p:nvPr/>
        </p:nvPicPr>
        <p:blipFill>
          <a:blip r:embed="rId1"/>
          <a:stretch/>
        </p:blipFill>
        <p:spPr>
          <a:xfrm>
            <a:off x="1116000" y="1623960"/>
            <a:ext cx="6985080" cy="523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5" name="Picture 7" descr="1101"/>
          <p:cNvPicPr/>
          <p:nvPr/>
        </p:nvPicPr>
        <p:blipFill>
          <a:blip r:embed="rId1"/>
          <a:stretch/>
        </p:blipFill>
        <p:spPr>
          <a:xfrm>
            <a:off x="1042920" y="1506600"/>
            <a:ext cx="7135920" cy="535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Т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97" name="Picture 5" descr="2200"/>
          <p:cNvPicPr/>
          <p:nvPr/>
        </p:nvPicPr>
        <p:blipFill>
          <a:blip r:embed="rId1"/>
          <a:stretch/>
        </p:blipFill>
        <p:spPr>
          <a:xfrm>
            <a:off x="1258920" y="1700280"/>
            <a:ext cx="6480000" cy="48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WordArt 4"/>
          <p:cNvSpPr txBox="1"/>
          <p:nvPr/>
        </p:nvSpPr>
        <p:spPr>
          <a:xfrm>
            <a:off x="684360" y="1916280"/>
            <a:ext cx="7488000" cy="34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А  ВЫ  ХОТИТЕ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АКОЕ  ДЕТСТВО ???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e10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" dur="5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6a8a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ОЛОД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0" name="Picture 8" descr="2226"/>
          <p:cNvPicPr/>
          <p:nvPr/>
        </p:nvPicPr>
        <p:blipFill>
          <a:blip r:embed="rId1"/>
          <a:stretch/>
        </p:blipFill>
        <p:spPr>
          <a:xfrm>
            <a:off x="1187280" y="1341360"/>
            <a:ext cx="7075800" cy="5311800"/>
          </a:xfrm>
          <a:prstGeom prst="rect">
            <a:avLst/>
          </a:prstGeom>
          <a:ln w="0">
            <a:noFill/>
          </a:ln>
        </p:spPr>
      </p:pic>
      <p:pic>
        <p:nvPicPr>
          <p:cNvPr id="401" name="20_02.MPG" descr=""/>
          <p:cNvPicPr/>
          <p:nvPr/>
        </p:nvPicPr>
        <p:blipFill>
          <a:blip r:embed="rId2"/>
          <a:stretch/>
        </p:blipFill>
        <p:spPr>
          <a:xfrm>
            <a:off x="179280" y="5950080"/>
            <a:ext cx="684360" cy="5587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86" nodeType="clickEffect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9" dur="1" fill="hold"/>
                                        <p:tgtEl>
                                          <p:spTgt spid="4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2" descr="C:\Users\One\Desktop\blokada.jpg"/>
          <p:cNvPicPr/>
          <p:nvPr/>
        </p:nvPicPr>
        <p:blipFill>
          <a:blip r:embed="rId1"/>
          <a:stretch/>
        </p:blipFill>
        <p:spPr>
          <a:xfrm>
            <a:off x="684360" y="981000"/>
            <a:ext cx="62690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1" descr="C:\Users\One\Desktop\Левитан.jpg"/>
          <p:cNvPicPr/>
          <p:nvPr/>
        </p:nvPicPr>
        <p:blipFill>
          <a:blip r:embed="rId1"/>
          <a:srcRect l="5591" t="15173" r="-17288" b="-15170"/>
          <a:stretch/>
        </p:blipFill>
        <p:spPr>
          <a:xfrm>
            <a:off x="1763640" y="2116080"/>
            <a:ext cx="6481800" cy="4917960"/>
          </a:xfrm>
          <a:prstGeom prst="rect">
            <a:avLst/>
          </a:prstGeom>
          <a:ln w="0">
            <a:noFill/>
          </a:ln>
        </p:spPr>
      </p:pic>
      <p:sp>
        <p:nvSpPr>
          <p:cNvPr id="359" name="TextBox 1"/>
          <p:cNvSpPr/>
          <p:nvPr/>
        </p:nvSpPr>
        <p:spPr>
          <a:xfrm>
            <a:off x="1519200" y="549360"/>
            <a:ext cx="570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cc00"/>
                </a:solidFill>
                <a:latin typeface="Arial Black"/>
              </a:rPr>
              <a:t>22 июня 1941 года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0" name="-о-нападен.mp3" descr=""/>
          <p:cNvPicPr/>
          <p:nvPr/>
        </p:nvPicPr>
        <p:blipFill>
          <a:blip r:embed="rId2"/>
          <a:stretch/>
        </p:blipFill>
        <p:spPr>
          <a:xfrm>
            <a:off x="971640" y="530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3104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2" descr="C:\Users\One\Desktop\z81FKLhx5KrrGi7h.jpg"/>
          <p:cNvPicPr/>
          <p:nvPr/>
        </p:nvPicPr>
        <p:blipFill>
          <a:blip r:embed="rId1"/>
          <a:stretch/>
        </p:blipFill>
        <p:spPr>
          <a:xfrm>
            <a:off x="1187280" y="907920"/>
            <a:ext cx="5905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C:\Users\One\Desktop\хлеб бл. Л..png"/>
          <p:cNvPicPr/>
          <p:nvPr/>
        </p:nvPicPr>
        <p:blipFill>
          <a:blip r:embed="rId1"/>
          <a:stretch/>
        </p:blipFill>
        <p:spPr>
          <a:xfrm>
            <a:off x="539640" y="604800"/>
            <a:ext cx="597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ГОЛОД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6" name="Picture 3" descr="2226"/>
          <p:cNvPicPr/>
          <p:nvPr/>
        </p:nvPicPr>
        <p:blipFill>
          <a:blip r:embed="rId1"/>
          <a:stretch/>
        </p:blipFill>
        <p:spPr>
          <a:xfrm>
            <a:off x="1187280" y="1341360"/>
            <a:ext cx="7075800" cy="5311800"/>
          </a:xfrm>
          <a:prstGeom prst="rect">
            <a:avLst/>
          </a:prstGeom>
          <a:ln w="0">
            <a:noFill/>
          </a:ln>
        </p:spPr>
      </p:pic>
      <p:pic>
        <p:nvPicPr>
          <p:cNvPr id="407" name="S1816.wav" descr=""/>
          <p:cNvPicPr/>
          <p:nvPr/>
        </p:nvPicPr>
        <p:blipFill>
          <a:blip r:embed="rId2"/>
          <a:stretch/>
        </p:blipFill>
        <p:spPr>
          <a:xfrm>
            <a:off x="32400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25564" fill="hold"/>
                                        <p:tgtEl>
                                          <p:spTgt spid="4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БОИ НАД НАШЕЙ РОДИНОЙ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09" name="19_02.MPG" descr=""/>
          <p:cNvPicPr/>
          <p:nvPr/>
        </p:nvPicPr>
        <p:blipFill>
          <a:blip r:embed="rId1"/>
          <a:stretch/>
        </p:blipFill>
        <p:spPr>
          <a:xfrm>
            <a:off x="395280" y="5877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10" name="Picture 8" descr="0099"/>
          <p:cNvPicPr/>
          <p:nvPr/>
        </p:nvPicPr>
        <p:blipFill>
          <a:blip r:embed="rId2"/>
          <a:stretch/>
        </p:blipFill>
        <p:spPr>
          <a:xfrm>
            <a:off x="1403280" y="2349360"/>
            <a:ext cx="727236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40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40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" dur="1" fill="hold"/>
                                        <p:tgtEl>
                                          <p:spTgt spid="4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АДРЫ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2" name="19_02.MPG" descr=""/>
          <p:cNvPicPr/>
          <p:nvPr/>
        </p:nvPicPr>
        <p:blipFill>
          <a:blip r:embed="rId1"/>
          <a:stretch/>
        </p:blipFill>
        <p:spPr>
          <a:xfrm>
            <a:off x="395280" y="5877000"/>
            <a:ext cx="719280" cy="5871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13" name="Picture 7" descr="2346"/>
          <p:cNvPicPr/>
          <p:nvPr/>
        </p:nvPicPr>
        <p:blipFill>
          <a:blip r:embed="rId2"/>
          <a:stretch/>
        </p:blipFill>
        <p:spPr>
          <a:xfrm>
            <a:off x="2411280" y="1736640"/>
            <a:ext cx="65516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WordArt 4"/>
          <p:cNvSpPr txBox="1"/>
          <p:nvPr/>
        </p:nvSpPr>
        <p:spPr>
          <a:xfrm>
            <a:off x="1476360" y="2349360"/>
            <a:ext cx="4378320" cy="294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9 МАЯ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e1f08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2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cc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БЕДА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6" name="S1873733.wav" descr=""/>
          <p:cNvPicPr/>
          <p:nvPr/>
        </p:nvPicPr>
        <p:blipFill>
          <a:blip r:embed="rId1"/>
          <a:stretch/>
        </p:blipFill>
        <p:spPr>
          <a:xfrm>
            <a:off x="395280" y="6165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8" descr="1878"/>
          <p:cNvPicPr/>
          <p:nvPr/>
        </p:nvPicPr>
        <p:blipFill>
          <a:blip r:embed="rId2"/>
          <a:stretch/>
        </p:blipFill>
        <p:spPr>
          <a:xfrm>
            <a:off x="1332000" y="1700280"/>
            <a:ext cx="6694560" cy="50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887" fill="hold"/>
                                        <p:tgtEl>
                                          <p:spTgt spid="4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ЦЕНА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19" name="S1983733.wav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8" descr="1989"/>
          <p:cNvPicPr/>
          <p:nvPr/>
        </p:nvPicPr>
        <p:blipFill>
          <a:blip r:embed="rId2"/>
          <a:stretch/>
        </p:blipFill>
        <p:spPr>
          <a:xfrm>
            <a:off x="1187280" y="1673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7318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2" name="S1113748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8" descr="1118"/>
          <p:cNvPicPr/>
          <p:nvPr/>
        </p:nvPicPr>
        <p:blipFill>
          <a:blip r:embed="rId2"/>
          <a:stretch/>
        </p:blipFill>
        <p:spPr>
          <a:xfrm>
            <a:off x="1403280" y="1844640"/>
            <a:ext cx="64785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7547" fill="hold"/>
                                        <p:tgtEl>
                                          <p:spTgt spid="4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5" name="S1993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1993"/>
          <p:cNvPicPr/>
          <p:nvPr/>
        </p:nvPicPr>
        <p:blipFill>
          <a:blip r:embed="rId2"/>
          <a:stretch/>
        </p:blipFill>
        <p:spPr>
          <a:xfrm>
            <a:off x="1116000" y="16732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20387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2" name="04_03.MPG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55640" cy="6174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63" name="Picture 8" descr="1391"/>
          <p:cNvPicPr/>
          <p:nvPr/>
        </p:nvPicPr>
        <p:blipFill>
          <a:blip r:embed="rId2"/>
          <a:stretch/>
        </p:blipFill>
        <p:spPr>
          <a:xfrm>
            <a:off x="1908000" y="1413000"/>
            <a:ext cx="6910560" cy="5182920"/>
          </a:xfrm>
          <a:prstGeom prst="rect">
            <a:avLst/>
          </a:prstGeom>
          <a:ln w="0">
            <a:noFill/>
          </a:ln>
        </p:spPr>
      </p:pic>
      <p:pic>
        <p:nvPicPr>
          <p:cNvPr id="364" name="Священная Война ).mp3" descr=""/>
          <p:cNvPicPr/>
          <p:nvPr/>
        </p:nvPicPr>
        <p:blipFill>
          <a:blip r:embed="rId3"/>
          <a:stretch/>
        </p:blipFill>
        <p:spPr>
          <a:xfrm>
            <a:off x="1258920" y="3357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12864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 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28" name="S0133764.wav" descr=""/>
          <p:cNvPicPr/>
          <p:nvPr/>
        </p:nvPicPr>
        <p:blipFill>
          <a:blip r:embed="rId1"/>
          <a:stretch/>
        </p:blipFill>
        <p:spPr>
          <a:xfrm>
            <a:off x="8675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0139"/>
          <p:cNvPicPr/>
          <p:nvPr/>
        </p:nvPicPr>
        <p:blipFill>
          <a:blip r:embed="rId2"/>
          <a:stretch/>
        </p:blipFill>
        <p:spPr>
          <a:xfrm>
            <a:off x="971640" y="1484280"/>
            <a:ext cx="6985080" cy="52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1133" fill="hold"/>
                                        <p:tgtEl>
                                          <p:spTgt spid="4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АЗРУШЕНО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1" name="S0503764.wav" descr=""/>
          <p:cNvPicPr/>
          <p:nvPr/>
        </p:nvPicPr>
        <p:blipFill>
          <a:blip r:embed="rId1"/>
          <a:stretch/>
        </p:blipFill>
        <p:spPr>
          <a:xfrm>
            <a:off x="179280" y="63817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8" descr="0502"/>
          <p:cNvPicPr/>
          <p:nvPr/>
        </p:nvPicPr>
        <p:blipFill>
          <a:blip r:embed="rId2"/>
          <a:stretch/>
        </p:blipFill>
        <p:spPr>
          <a:xfrm>
            <a:off x="1403280" y="1484280"/>
            <a:ext cx="694548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0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5302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4" name="S1083780.wav" descr=""/>
          <p:cNvPicPr/>
          <p:nvPr/>
        </p:nvPicPr>
        <p:blipFill>
          <a:blip r:embed="rId1"/>
          <a:stretch/>
        </p:blipFill>
        <p:spPr>
          <a:xfrm>
            <a:off x="17928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8" descr="1086"/>
          <p:cNvPicPr/>
          <p:nvPr/>
        </p:nvPicPr>
        <p:blipFill>
          <a:blip r:embed="rId2"/>
          <a:stretch/>
        </p:blipFill>
        <p:spPr>
          <a:xfrm>
            <a:off x="1403280" y="1844640"/>
            <a:ext cx="6407280" cy="48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0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7867" fill="hold"/>
                                        <p:tgtEl>
                                          <p:spTgt spid="4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ТЕРИ ВОЙН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37" name="S1103795.wav" descr=""/>
          <p:cNvPicPr/>
          <p:nvPr/>
        </p:nvPicPr>
        <p:blipFill>
          <a:blip r:embed="rId1"/>
          <a:stretch/>
        </p:blipFill>
        <p:spPr>
          <a:xfrm>
            <a:off x="250920" y="630864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1100"/>
          <p:cNvPicPr/>
          <p:nvPr/>
        </p:nvPicPr>
        <p:blipFill>
          <a:blip r:embed="rId2"/>
          <a:stretch/>
        </p:blipFill>
        <p:spPr>
          <a:xfrm>
            <a:off x="1547640" y="1773360"/>
            <a:ext cx="6550200" cy="49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3515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ОГИБШИЕ В ЛАГЕРЯХ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0" name="S0143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8" descr="0143"/>
          <p:cNvPicPr/>
          <p:nvPr/>
        </p:nvPicPr>
        <p:blipFill>
          <a:blip r:embed="rId2"/>
          <a:stretch/>
        </p:blipFill>
        <p:spPr>
          <a:xfrm>
            <a:off x="1332000" y="1557360"/>
            <a:ext cx="6800760" cy="51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31245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1" descr="C:\Users\One\Desktop\веч.огонь.jpg"/>
          <p:cNvPicPr/>
          <p:nvPr/>
        </p:nvPicPr>
        <p:blipFill>
          <a:blip r:embed="rId1"/>
          <a:stretch/>
        </p:blipFill>
        <p:spPr>
          <a:xfrm>
            <a:off x="1692360" y="620640"/>
            <a:ext cx="6264360" cy="5832720"/>
          </a:xfrm>
          <a:prstGeom prst="rect">
            <a:avLst/>
          </a:prstGeom>
          <a:ln w="0">
            <a:noFill/>
          </a:ln>
        </p:spPr>
      </p:pic>
      <p:pic>
        <p:nvPicPr>
          <p:cNvPr id="443" name="metronom2.mp3" descr=""/>
          <p:cNvPicPr/>
          <p:nvPr/>
        </p:nvPicPr>
        <p:blipFill>
          <a:blip r:embed="rId2"/>
          <a:stretch/>
        </p:blipFill>
        <p:spPr>
          <a:xfrm>
            <a:off x="900000" y="371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45772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ЗНАМЯ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5" name="19_03.MPG" descr=""/>
          <p:cNvPicPr/>
          <p:nvPr/>
        </p:nvPicPr>
        <p:blipFill>
          <a:blip r:embed="rId1"/>
          <a:stretch/>
        </p:blipFill>
        <p:spPr>
          <a:xfrm>
            <a:off x="7380360" y="5829480"/>
            <a:ext cx="720720" cy="5889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46" name="Picture 8" descr="2144"/>
          <p:cNvPicPr/>
          <p:nvPr/>
        </p:nvPicPr>
        <p:blipFill>
          <a:blip r:embed="rId2"/>
          <a:stretch/>
        </p:blipFill>
        <p:spPr>
          <a:xfrm>
            <a:off x="0" y="2060640"/>
            <a:ext cx="7000920" cy="4548240"/>
          </a:xfrm>
          <a:prstGeom prst="rect">
            <a:avLst/>
          </a:prstGeom>
          <a:ln w="0">
            <a:noFill/>
          </a:ln>
        </p:spPr>
      </p:pic>
      <p:pic>
        <p:nvPicPr>
          <p:cNvPr id="447" name="S2123811.wav" descr=""/>
          <p:cNvPicPr/>
          <p:nvPr/>
        </p:nvPicPr>
        <p:blipFill>
          <a:blip r:embed="rId3"/>
          <a:stretch/>
        </p:blipFill>
        <p:spPr>
          <a:xfrm>
            <a:off x="7812000" y="458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11820" fill="hold"/>
                                        <p:tgtEl>
                                          <p:spTgt spid="4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90" nodeType="clickEffect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3" dur="1" fill="hold"/>
                                        <p:tgtEl>
                                          <p:spTgt spid="4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РАДОСТЬ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49" name="S0483811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7" descr="0481"/>
          <p:cNvPicPr/>
          <p:nvPr/>
        </p:nvPicPr>
        <p:blipFill>
          <a:blip r:embed="rId2"/>
          <a:stretch/>
        </p:blipFill>
        <p:spPr>
          <a:xfrm>
            <a:off x="1258920" y="1628640"/>
            <a:ext cx="72327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14890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ДЕНЬ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2" name="Picture 7" descr="0733"/>
          <p:cNvPicPr/>
          <p:nvPr/>
        </p:nvPicPr>
        <p:blipFill>
          <a:blip r:embed="rId1"/>
          <a:stretch/>
        </p:blipFill>
        <p:spPr>
          <a:xfrm>
            <a:off x="2195640" y="1989000"/>
            <a:ext cx="6242040" cy="4678560"/>
          </a:xfrm>
          <a:prstGeom prst="rect">
            <a:avLst/>
          </a:prstGeom>
          <a:ln w="0">
            <a:noFill/>
          </a:ln>
        </p:spPr>
      </p:pic>
      <p:pic>
        <p:nvPicPr>
          <p:cNvPr id="453" name="21_04.MPG" descr=""/>
          <p:cNvPicPr/>
          <p:nvPr/>
        </p:nvPicPr>
        <p:blipFill>
          <a:blip r:embed="rId2"/>
          <a:stretch/>
        </p:blipFill>
        <p:spPr>
          <a:xfrm>
            <a:off x="324000" y="5715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restart="whenNotActive" nodeType="interactiveSeq" fill="hold">
                <p:stCondLst>
                  <p:cond evt="onClick">
                    <p:tgtEl>
                      <p:spTgt spid="453"/>
                    </p:tgtEl>
                  </p:cond>
                </p:stCondLst>
                <p:childTnLst>
                  <p:par>
                    <p:cTn id="202" nodeType="clickEffect" fill="hold">
                      <p:stCondLst>
                        <p:cond evt="onClick">
                          <p:tgtEl>
                            <p:spTgt spid="453"/>
                          </p:tgtEl>
                        </p:cond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5" dur="1" fill="hold"/>
                                        <p:tgtEl>
                                          <p:spTgt spid="4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АРАД  ПОБЕДЫ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55" name="21_01.MPG" descr=""/>
          <p:cNvPicPr/>
          <p:nvPr/>
        </p:nvPicPr>
        <p:blipFill>
          <a:blip r:embed="rId1"/>
          <a:stretch/>
        </p:blipFill>
        <p:spPr>
          <a:xfrm>
            <a:off x="250920" y="5084640"/>
            <a:ext cx="777960" cy="6368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456" name="Picture 8" descr="0519"/>
          <p:cNvPicPr/>
          <p:nvPr/>
        </p:nvPicPr>
        <p:blipFill>
          <a:blip r:embed="rId2"/>
          <a:stretch/>
        </p:blipFill>
        <p:spPr>
          <a:xfrm>
            <a:off x="1979640" y="1916280"/>
            <a:ext cx="6369120" cy="4776480"/>
          </a:xfrm>
          <a:prstGeom prst="rect">
            <a:avLst/>
          </a:prstGeom>
          <a:ln w="0">
            <a:noFill/>
          </a:ln>
        </p:spPr>
      </p:pic>
      <p:pic>
        <p:nvPicPr>
          <p:cNvPr id="457" name="S0733826.wav" descr=""/>
          <p:cNvPicPr/>
          <p:nvPr/>
        </p:nvPicPr>
        <p:blipFill>
          <a:blip r:embed="rId3"/>
          <a:stretch/>
        </p:blipFill>
        <p:spPr>
          <a:xfrm>
            <a:off x="324000" y="4797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8" name="21_06.MPG" descr=""/>
          <p:cNvPicPr/>
          <p:nvPr/>
        </p:nvPicPr>
        <p:blipFill>
          <a:blip r:embed="rId4"/>
          <a:stretch/>
        </p:blipFill>
        <p:spPr>
          <a:xfrm>
            <a:off x="250920" y="5950080"/>
            <a:ext cx="742680" cy="6080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14615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455"/>
                    </p:tgtEl>
                  </p:cond>
                </p:stCondLst>
                <p:childTnLst>
                  <p:par>
                    <p:cTn id="213" nodeType="clickEffect" fill="hold">
                      <p:stCondLst>
                        <p:cond evt="onClick">
                          <p:tgtEl>
                            <p:spTgt spid="455"/>
                          </p:tgtEl>
                        </p:cond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6" dur="1" fill="hold"/>
                                        <p:tgtEl>
                                          <p:spTgt spid="4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1" dur="1" fill="hold"/>
                                        <p:tgtEl>
                                          <p:spTgt spid="4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6" name="04_01.MPG" descr=""/>
          <p:cNvPicPr/>
          <p:nvPr/>
        </p:nvPicPr>
        <p:blipFill>
          <a:blip r:embed="rId1"/>
          <a:stretch/>
        </p:blipFill>
        <p:spPr>
          <a:xfrm>
            <a:off x="179280" y="6137280"/>
            <a:ext cx="647640" cy="5302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367" name="Picture 8" descr="0478"/>
          <p:cNvPicPr/>
          <p:nvPr/>
        </p:nvPicPr>
        <p:blipFill>
          <a:blip r:embed="rId2"/>
          <a:stretch/>
        </p:blipFill>
        <p:spPr>
          <a:xfrm>
            <a:off x="2124000" y="2027160"/>
            <a:ext cx="64404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2" descr="C:\Users\One\Desktop\86930299.jpg"/>
          <p:cNvPicPr/>
          <p:nvPr/>
        </p:nvPicPr>
        <p:blipFill>
          <a:blip r:embed="rId1"/>
          <a:stretch/>
        </p:blipFill>
        <p:spPr>
          <a:xfrm>
            <a:off x="395280" y="1197000"/>
            <a:ext cx="6553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2" descr="C:\Users\One\Desktop\смуглянка.jpg"/>
          <p:cNvPicPr/>
          <p:nvPr/>
        </p:nvPicPr>
        <p:blipFill>
          <a:blip r:embed="rId1"/>
          <a:stretch/>
        </p:blipFill>
        <p:spPr>
          <a:xfrm>
            <a:off x="1320840" y="946080"/>
            <a:ext cx="650232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2" descr="C:\Users\One\Desktop\800x600_Tgc7HC2h9fVp8KWPyY5U.jpg"/>
          <p:cNvPicPr/>
          <p:nvPr/>
        </p:nvPicPr>
        <p:blipFill>
          <a:blip r:embed="rId1"/>
          <a:stretch/>
        </p:blipFill>
        <p:spPr>
          <a:xfrm>
            <a:off x="468360" y="620640"/>
            <a:ext cx="63356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E:\картинки ВОВ\345389062.jpg"/>
          <p:cNvPicPr/>
          <p:nvPr/>
        </p:nvPicPr>
        <p:blipFill>
          <a:blip r:embed="rId1"/>
          <a:stretch/>
        </p:blipFill>
        <p:spPr>
          <a:xfrm>
            <a:off x="785880" y="642960"/>
            <a:ext cx="72151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АЛЮТ  ПОБЕДЫ !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4" name="Picture 8" descr="0308"/>
          <p:cNvPicPr/>
          <p:nvPr/>
        </p:nvPicPr>
        <p:blipFill>
          <a:blip r:embed="rId1"/>
          <a:stretch/>
        </p:blipFill>
        <p:spPr>
          <a:xfrm>
            <a:off x="2050920" y="1484280"/>
            <a:ext cx="6801120" cy="5100840"/>
          </a:xfrm>
          <a:prstGeom prst="rect">
            <a:avLst/>
          </a:prstGeom>
          <a:ln w="0">
            <a:noFill/>
          </a:ln>
        </p:spPr>
      </p:pic>
      <p:pic>
        <p:nvPicPr>
          <p:cNvPr id="465" name="21_05.MPG" descr=""/>
          <p:cNvPicPr/>
          <p:nvPr/>
        </p:nvPicPr>
        <p:blipFill>
          <a:blip r:embed="rId2"/>
          <a:stretch/>
        </p:blipFill>
        <p:spPr>
          <a:xfrm>
            <a:off x="395280" y="51516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7" dur="1" fill="hold"/>
                                        <p:tgtEl>
                                          <p:spTgt spid="4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2" descr="E:\картинки ВОВ\951289fd-2bd2-43a2-a9d5-8818e6d34e2a.jpg"/>
          <p:cNvPicPr/>
          <p:nvPr/>
        </p:nvPicPr>
        <p:blipFill>
          <a:blip r:embed="rId1"/>
          <a:stretch/>
        </p:blipFill>
        <p:spPr>
          <a:xfrm>
            <a:off x="1143000" y="1143000"/>
            <a:ext cx="6858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СЛАВА  РУССКОМУ НАРОДУ-ПОБЕДИТЕЛ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68" name="S0243842.wav" descr=""/>
          <p:cNvPicPr/>
          <p:nvPr/>
        </p:nvPicPr>
        <p:blipFill>
          <a:blip r:embed="rId1"/>
          <a:stretch/>
        </p:blipFill>
        <p:spPr>
          <a:xfrm>
            <a:off x="250920" y="623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2236"/>
          <p:cNvPicPr/>
          <p:nvPr/>
        </p:nvPicPr>
        <p:blipFill>
          <a:blip r:embed="rId2"/>
          <a:stretch/>
        </p:blipFill>
        <p:spPr>
          <a:xfrm>
            <a:off x="1258920" y="1700280"/>
            <a:ext cx="631332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0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3" dur="4811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1" descr="E:\картинки ВОВ\spek7.jpg"/>
          <p:cNvPicPr/>
          <p:nvPr/>
        </p:nvPicPr>
        <p:blipFill>
          <a:blip r:embed="rId1"/>
          <a:stretch/>
        </p:blipFill>
        <p:spPr>
          <a:xfrm>
            <a:off x="762120" y="882720"/>
            <a:ext cx="761976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Пусть всегда будет солнце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472" name="Picture 2" descr="C:\Users\One\Desktop\images.jpg"/>
          <p:cNvPicPr/>
          <p:nvPr/>
        </p:nvPicPr>
        <p:blipFill>
          <a:blip r:embed="rId1"/>
          <a:stretch/>
        </p:blipFill>
        <p:spPr>
          <a:xfrm>
            <a:off x="826920" y="1773360"/>
            <a:ext cx="590580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22  ИЮНЯ 1941 ГОДА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69" name="04_02.MPG" descr=""/>
          <p:cNvPicPr/>
          <p:nvPr/>
        </p:nvPicPr>
        <p:blipFill>
          <a:blip r:embed="rId1"/>
          <a:stretch/>
        </p:blipFill>
        <p:spPr>
          <a:xfrm>
            <a:off x="250920" y="6093000"/>
            <a:ext cx="684000" cy="5601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0" name="Picture 8" descr="0174"/>
          <p:cNvPicPr/>
          <p:nvPr/>
        </p:nvPicPr>
        <p:blipFill>
          <a:blip r:embed="rId2"/>
          <a:stretch/>
        </p:blipFill>
        <p:spPr>
          <a:xfrm>
            <a:off x="1979640" y="1700280"/>
            <a:ext cx="65847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38" nodeType="clickEffect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3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ВОЕННОЕ  ДЕТСТВО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2" name="17_01.MPG" descr=""/>
          <p:cNvPicPr/>
          <p:nvPr/>
        </p:nvPicPr>
        <p:blipFill>
          <a:blip r:embed="rId1"/>
          <a:stretch/>
        </p:blipFill>
        <p:spPr>
          <a:xfrm>
            <a:off x="250920" y="6039000"/>
            <a:ext cx="792000" cy="64764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3" name="Picture 7" descr="0231"/>
          <p:cNvPicPr/>
          <p:nvPr/>
        </p:nvPicPr>
        <p:blipFill>
          <a:blip r:embed="rId2"/>
          <a:stretch/>
        </p:blipFill>
        <p:spPr>
          <a:xfrm>
            <a:off x="0" y="1989000"/>
            <a:ext cx="8244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44" nodeType="clickEffect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7" dur="1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Юный партизан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5" name="04_04.MPG" descr=""/>
          <p:cNvPicPr/>
          <p:nvPr/>
        </p:nvPicPr>
        <p:blipFill>
          <a:blip r:embed="rId1"/>
          <a:stretch/>
        </p:blipFill>
        <p:spPr>
          <a:xfrm>
            <a:off x="324000" y="6021360"/>
            <a:ext cx="755640" cy="61920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4500360" y="2000160"/>
            <a:ext cx="3571560" cy="41148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" descr="E:\картинки ВОВ\kAwixDzk69U.jpg"/>
          <p:cNvPicPr/>
          <p:nvPr/>
        </p:nvPicPr>
        <p:blipFill>
          <a:blip r:embed="rId3"/>
          <a:stretch/>
        </p:blipFill>
        <p:spPr>
          <a:xfrm>
            <a:off x="1116000" y="141300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3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ТРУД  ПОДРОСТКОВ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79" name="17_02.MPG" descr=""/>
          <p:cNvPicPr/>
          <p:nvPr/>
        </p:nvPicPr>
        <p:blipFill>
          <a:blip r:embed="rId1"/>
          <a:stretch/>
        </p:blipFill>
        <p:spPr>
          <a:xfrm>
            <a:off x="395280" y="5950080"/>
            <a:ext cx="863640" cy="70632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80" name="Picture 8" descr="0104"/>
          <p:cNvPicPr/>
          <p:nvPr/>
        </p:nvPicPr>
        <p:blipFill>
          <a:blip r:embed="rId2"/>
          <a:stretch/>
        </p:blipFill>
        <p:spPr>
          <a:xfrm>
            <a:off x="1000080" y="1628640"/>
            <a:ext cx="7286760" cy="51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ПИОНЕРЫ-ГЕРО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382" name="17_03.MPG" descr=""/>
          <p:cNvPicPr/>
          <p:nvPr/>
        </p:nvPicPr>
        <p:blipFill>
          <a:blip r:embed="rId1"/>
          <a:stretch/>
        </p:blipFill>
        <p:spPr>
          <a:xfrm>
            <a:off x="539640" y="6021360"/>
            <a:ext cx="719280" cy="588960"/>
          </a:xfrm>
          <a:prstGeom prst="rect">
            <a:avLst/>
          </a:prstGeom>
          <a:ln w="9360">
            <a:solidFill>
              <a:srgbClr val="660033"/>
            </a:solidFill>
            <a:miter/>
          </a:ln>
        </p:spPr>
      </p:pic>
      <p:pic>
        <p:nvPicPr>
          <p:cNvPr id="383" name="Picture 8" descr="0371"/>
          <p:cNvPicPr/>
          <p:nvPr/>
        </p:nvPicPr>
        <p:blipFill>
          <a:blip r:embed="rId2"/>
          <a:stretch/>
        </p:blipFill>
        <p:spPr>
          <a:xfrm>
            <a:off x="1571760" y="1428840"/>
            <a:ext cx="66085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62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5" dur="1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5:30:47Z</dcterms:created>
  <dc:creator>Влад</dc:creator>
  <dc:description/>
  <dc:language>en-US</dc:language>
  <cp:lastModifiedBy>One</cp:lastModifiedBy>
  <dcterms:modified xsi:type="dcterms:W3CDTF">2015-05-04T12:46:26Z</dcterms:modified>
  <cp:revision>91</cp:revision>
  <dc:subject/>
  <dc:title>Слайд 1</dc:title>
</cp:coreProperties>
</file>